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1BA-AEE6-47C4-A709-34588DB1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a picture of all the different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E53-EF97-4637-9E91-1EBA8816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BF2-535C-46F1-861F-89AB5EB7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6F1-BFCF-4CB8-A4AC-15B42828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804-C1CE-45F2-B4B6-BAFB86D8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00A2-BFD1-4F0A-B650-020FAA04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67C-9264-4BCA-8FCE-9FF6F7B7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C3BA-2607-491C-980B-DDEE40DE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ED53-0C15-4836-8E32-9CBDA1C4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C4A7-9712-448E-8A42-DF5FD63D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4AAD-F376-4588-B06F-CE64535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3D43-0A2B-44E0-AFCA-5D15E10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B33-022E-4083-80EE-B461512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487-A3E2-410A-A7EE-1002E8A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DDA8-6AAA-41F8-8C97-B9546C2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539-D1B8-4C7A-B07F-A2D7FBD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C19-0F28-4E1E-920F-D11CB201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2772-0FE4-41F6-973C-876ACE41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45D5-4D5A-43EE-A568-E852205C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5045-39DB-4C57-A44F-6A1CCE2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440A-50DC-4DD2-AA04-ED72D138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2EF7-8D25-4895-AB96-7BF75151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88E6-26A9-458A-A5CD-605389AE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8FF-9283-462A-B46E-81FFE55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2E6C5-8715-40C2-87BD-E7B93BEA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8DD2-44AF-4A19-A640-E5CDF857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42BE-0046-4F57-96E9-3529250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6333-1089-4752-B9BB-4B0BAC3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1200-B978-4D9B-BE47-D51D79B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1F93-899A-4C42-B6D4-F5511BB3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DA11-658D-4F05-844E-725188FB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72AA-663E-4C4D-B7AD-675385B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AEC8-E794-49DF-B09E-5764BD2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5647-0459-404F-88D2-23199317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863-05F7-410E-B380-FCDA366C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29A7-85D5-442B-B83C-49B02349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CBA4-8D53-43D1-8761-611C3B55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8022-D153-4F39-977A-4160438E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A379-0591-4287-AC9F-742C4CE4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99AD-11C5-4C82-AA23-BD3B905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00FA-675F-49E1-B312-F095E2C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A47D0-CFDA-45BC-9A4B-F4B16A2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97DB-BAA5-411B-9CAD-55F97477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8924-3CEF-4043-AC2D-4CD9CC9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4A60-02C6-46F5-98B3-F0D61866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D31-1914-4BA7-832B-E1E3FF71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D09A-F940-422F-9BF1-932D4E4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92C1-AA04-41F9-BAB9-5905155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8194-634B-48C0-8EB7-D1A3FB6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63BB-40BD-4E46-8FA1-A9DDC84C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B160F-3E9D-4280-8372-BABBB95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0921-2FCE-4ED2-9C9A-218C3C7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B192-F003-4E54-BD8A-CFA69CC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F74D-A7F8-4695-92AD-E7945732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70378-1A21-4173-92B6-42341D7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35CA-F228-43BD-8F6F-5D95764B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3EA-BA19-41F5-A205-8AC3E5D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4579A-F5F7-4C66-8B7B-60DD8928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F712-D6F6-41F3-91FB-1B6340FE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422B-CA43-48D0-9CEA-2F0EBBDF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4D7D-1E04-49F5-944A-C4B4CB2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68F4-F62F-49A5-9A46-1A52C8A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5A067-5264-4374-8ADB-CEEFDD4A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190D-C1E3-4D6C-A193-B9912B3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4ED2-8096-4927-81D9-27CA5A6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138D-9999-453E-ABF6-9954277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ADAE-8344-4836-A149-102C16C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29A-F103-45C3-A64A-BC9D325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5AB96-E289-4D85-A4B8-5FAA156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B6C39-96C6-45D3-929F-D4879B00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4D1AA-9EEB-4DC4-9A3E-E57F17EA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24D-5E41-4974-A426-3588E87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435-64DB-473D-8B1D-D9EED07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614-3734-43EB-8C50-732428A2A42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F20-0E7A-4D7D-85D5-118FADCDF8F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9316-76B4-4E99-98D2-0C1DEAF59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7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414-21F2-4BBE-98DC-8DCF401A00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4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5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7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9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A19-A886-4283-A82B-EF6CA0961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4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9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EE91-1D49-433D-A447-1F6427227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pow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y 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-1476360" y="0"/>
            <a:ext cx="11120400" cy="1411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y powe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500720" cy="429264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716360" cy="37116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rcRect l="-680" t="-1001" r="-680" b="-1001"/>
          <a:stretch/>
        </p:blipFill>
        <p:spPr>
          <a:xfrm>
            <a:off x="4572000" y="0"/>
            <a:ext cx="4572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clea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clear energ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343400" y="3238560"/>
            <a:ext cx="4800600" cy="36194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3075120"/>
            <a:ext cx="4284720" cy="3562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5940360" y="147600"/>
            <a:ext cx="3203640" cy="3090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olar pow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olar pow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4829040" y="3057480"/>
            <a:ext cx="4314960" cy="38005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47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643280" y="115920"/>
            <a:ext cx="450072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dal pow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icture of wav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5448240" y="2997360"/>
            <a:ext cx="3695760" cy="38606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0" y="3527280"/>
            <a:ext cx="5364000" cy="3330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399564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ydro power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638520" y="3933720"/>
            <a:ext cx="5505480" cy="28101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959280" cy="42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57200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9:40:06Z</dcterms:created>
  <dc:creator>HWDSB</dc:creator>
  <dc:description/>
  <dc:language>en-US</dc:language>
  <cp:lastModifiedBy>HWDSB</cp:lastModifiedBy>
  <dcterms:modified xsi:type="dcterms:W3CDTF">2011-01-18T15:27:10Z</dcterms:modified>
  <cp:revision>3</cp:revision>
  <dc:subject/>
  <dc:title>Energy sources</dc:title>
</cp:coreProperties>
</file>